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C08-DED8-4F1F-9E07-34A7E85C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85F-3E05-4B5E-9DFE-A6FAFDC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5AB-E68F-41A7-8915-C62E429F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56B-CB17-483F-9608-4189D674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1A62-39DF-4DED-8577-0EC9F0DE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9360-6C62-48FE-98EB-08A056CB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22F1-A436-4E0D-9C24-F568C979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B67-51E0-4E2F-BBCE-743FC4B1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F405-A5A8-4346-9ED7-5B9666A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D23D-E685-4DF1-8953-EC45341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2B74-B72E-453A-A2B1-B33AF64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407-23C8-4A22-9774-E5F9ED17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529-547E-45B9-A3B9-367CAC8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903-EF3B-4BA2-84C9-36F76669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4BE-B018-4AEB-8596-1F1F6DBC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8FF-A9CC-4033-A245-26E26166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85BC-9BAC-4CFD-976C-C085E88D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B8CF-0984-446A-BE2F-857C95DA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3FEA-E636-4683-A352-6DE0393F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FAB2-02B7-43BD-8F59-D550A7B9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2C8D-91B1-4B36-A7A3-CA5F93E3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6F7D-0344-40D4-8DFE-9ED1CB6F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A9C-05A5-41FA-9BF5-1DE1DE4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B463-A92F-42D9-9FBF-27B94E6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78E9-4FC3-4B88-8059-A087B020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DE2C-F9A9-4861-B89A-3C27123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1B21-2AAF-411C-9CBA-47358C0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712F-0592-43F0-9D97-0D1BE88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B99E-214B-4757-B6E2-61B34D8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6A71-3A2F-4EFA-895E-AB021592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4E09-B214-47A9-942E-305A1947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5305-8962-4176-8D41-7E02BEB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75B3-B8E4-4AD4-84DC-C930C01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C2F-00C3-4B4F-B604-58234E38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9F9E-B2CF-4442-8D52-AB327A4C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F5A4-0394-4957-B6D3-D43D0FE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1621-E3FE-4BDC-A4D8-01203D17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3A9D-7F51-4C11-9BF0-7403367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ACB3-7ABE-4AAF-8BFB-AF4B338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8741-E920-4694-8A8F-AB4C833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00E2-46EE-4447-A6C4-235DA1D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F2FF-7FCB-44B8-A642-52D980C6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E71A-48A5-4E86-9353-FE24F0B0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C70E-ADC9-456A-A719-E1A7C3B6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508-B89F-4B6A-B047-8C1B79B9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7791-FECE-48FD-8FDC-D77892FC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0309-BC38-464D-B209-53F36D4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0779-5A1E-4C78-BF2D-AA88C50E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5BEA-6792-481E-BC41-E44EA35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BEB3-A563-4622-91D8-95AD7DD0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CB31-597A-4D0E-9B8B-C37890F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6FE0-398F-4BDF-A56F-85F6414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0424-7F75-409A-A969-E968616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4AF6-A1EB-457D-91D2-A73F562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8997E-2586-4ACB-91BE-D7E15F7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075-7538-4750-86A2-E41FF7D3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4D90-B9E0-4F79-A14C-52C340AD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798D-4135-4CA0-B5B2-6464673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CE83-C9B3-487C-846E-6F4E328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3EAD-F345-4F3F-B273-59A82000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777BA-61D6-46A5-96E2-28973586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AB23-6B18-4F99-A32D-F11F4F30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CEFB-4B33-43D2-9D5A-CFCDCC6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7EED-2FC4-4094-A993-4D35611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6008-CDC4-42F6-92DF-317EFAC6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C0AEE-9738-41A3-9C3B-85BF48C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D94-5EC2-48B1-946F-9360F969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6BFD-6F8B-4629-B2AB-88E3F04E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8CC2-C6E2-4313-833C-182000AD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2B57-3B4C-4D11-8745-7EDEDB73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EDE3-FF24-4317-9343-069FBD82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A307-3675-4318-B0D3-1EC5E03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E8C2-F50D-4198-8144-573F9C1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AFAA-BDD5-47A7-98A3-03916AA6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8D18-AEBE-4DC4-844A-87365628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D541-1DCE-4DC9-A2B0-4E5C665C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8A6F6-6E81-4A13-B2BA-879D608A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283-E562-4DFC-A99B-D52FE15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B1A5-0AEC-4948-93FD-558B787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6072-D20E-442B-AC2A-E281987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C9EF-6A68-4237-8EB1-258FB22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C07E-3A24-4670-ADE5-E0F1923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69D0-F384-4B95-9194-D0F3B17A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178-CAFC-4117-9D97-25AA349E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6BA-1C03-4DB1-8619-0CF97AF4AA66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E9F-F2F9-4940-8DD4-9B4DF54EAD08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6BA6-9308-4BAE-8C20-47743634696A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8FD-1666-4B1F-B0A4-5C8A85F393D9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856-E69A-48BF-BCB3-57195C430D35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82C6-5BB3-4381-8F03-A5FAA93EF344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7DB-9213-4073-95A3-15916A0034A2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nduction aims to familiarise new members of staff with the organisation and its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an be informal or highly structu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ncludes organisation’s facilities, physical layout, key personnel, organisational rules and procedu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Is the process of developing workplace skil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raining is often skill based (such as learning how to develop a new piece of machiner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raining is necessary for both new staff and existing staf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ocuses more on increasing the knowledge base of employe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xample: Lawyers regularly attend professional development sessions that keep them up-to-date with the latest changes in the law, this improves their knowledge but not their skil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ithout training and development skills become out of date very quick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A good training program will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make allowances for differences among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link the training to evaluation of current 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jo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Give feedback on progress to the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rovide opportunities for follow 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e evaluated regular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aff will leave if they don’t feel appreciated. Recognition does not cost anything and can be done through meetings and newslet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Rewards can be given in the form of financial bonuses, holidays, shares, promotions and gif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Keeping staff motivated and happy is the aim of recognition and rewa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hen you have to replace a staff member it is costly and you lose skill and knowled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3:42:45Z</dcterms:created>
  <dc:creator>Eliza Wilford</dc:creator>
  <dc:description/>
  <dc:language>en-US</dc:language>
  <cp:lastModifiedBy>Ernest Reichelt</cp:lastModifiedBy>
  <dcterms:modified xsi:type="dcterms:W3CDTF">2013-06-26T13:13:47Z</dcterms:modified>
  <cp:revision>2</cp:revision>
  <dc:subject/>
  <dc:title>The employment cycle - Maintenance</dc:title>
</cp:coreProperties>
</file>